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117B-7CC2-43B5-94F8-E4D3EBAC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0E37-E1F0-4E2C-BF71-F8D6FB85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0D8-8956-42D6-977C-3C8C64BA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E94-E4DE-4D25-8680-9645DC22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7BD0-C839-4A2A-B5BE-B8FABC77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EF5-42B1-4F25-8236-80029FC4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A81F-F132-4E39-A63D-687B7B05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1B9-9F2B-4B33-A1BF-E6D5A873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E59-76A5-4027-8ED2-F410C64D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C1CC-CD89-46E2-A761-46A5472E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EA2-88F5-4E5C-A353-25592566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386-E558-4EFE-AB59-C03A5F89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_long_12" descr=""/>
          <p:cNvPicPr/>
          <p:nvPr/>
        </p:nvPicPr>
        <p:blipFill>
          <a:blip r:embed="rId2"/>
          <a:stretch/>
        </p:blipFill>
        <p:spPr>
          <a:xfrm>
            <a:off x="3733920" y="6324480"/>
            <a:ext cx="4116240" cy="457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ff33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77880" y="6477120"/>
            <a:ext cx="2819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r>
              <a:rPr b="1" i="1" lang="en-US" sz="1400" spc="-1" strike="noStrike">
                <a:solidFill>
                  <a:srgbClr val="808080"/>
                </a:solidFill>
                <a:latin typeface="Times New Roman"/>
              </a:rPr>
              <a:t>Mobile Communication Divis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9EB8-DE23-4E0A-BD94-8B4FAEDD78A8}" type="slidenum">
              <a:rPr b="1" i="1" lang="en-US" sz="1400" spc="-1" strike="noStrike">
                <a:solidFill>
                  <a:srgbClr val="3333c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logo_short_12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708600" y="185760"/>
            <a:ext cx="1770120" cy="596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85800" y="766800"/>
            <a:ext cx="777240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597960" y="214200"/>
            <a:ext cx="278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2b2b2"/>
                </a:solidFill>
                <a:latin typeface="Times New Roman"/>
              </a:rPr>
              <a:t>Melody Manager User Manu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Melody Manager User Manual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AMSUNG Electronic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formation &amp; Communications Busines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bile Communication Divis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&amp;D Group2 GSM S/W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4923000" cy="4626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to use…(4)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809720"/>
            <a:ext cx="1523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175248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ow title “User Area Data Loading” displa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ess bar displa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us message displa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981080"/>
            <a:ext cx="4419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143000" y="1828800"/>
            <a:ext cx="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2514600"/>
            <a:ext cx="304920" cy="3352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5105520"/>
            <a:ext cx="2057400" cy="761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980720" y="3029040"/>
            <a:ext cx="358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048120"/>
            <a:ext cx="0" cy="2057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81280" y="2629080"/>
            <a:ext cx="1905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B01D-111C-4AEC-AE32-80C46C07FB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4923000" cy="4626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to use…(5)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1752480"/>
            <a:ext cx="3429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 completed, received the whole melody dat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lody data information display in stored list are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2438280"/>
            <a:ext cx="1752480" cy="3429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181480" y="25909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507-77F2-4EF4-B899-EC9286DF9E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4923000" cy="4626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to use…(6)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1752480"/>
            <a:ext cx="3276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Operation : Changing dat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elect destination data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Use radio button FM/ADPC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Click destination data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elect source fi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Use Browse butt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Use File li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2590920"/>
            <a:ext cx="304560" cy="3200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581280" y="2362320"/>
            <a:ext cx="228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236232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2647800" y="2533680"/>
            <a:ext cx="609840" cy="2286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3048120"/>
            <a:ext cx="2210040" cy="1600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276720" y="4419720"/>
            <a:ext cx="25905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71440" y="4038480"/>
            <a:ext cx="289548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971800" y="2819520"/>
            <a:ext cx="0" cy="121896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F12-8B7F-433E-AC70-BBE0CC62B7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4923000" cy="4626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to use…(7)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1752480"/>
            <a:ext cx="342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 : Use browse butt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Browse butt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source fi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2638440" y="2533680"/>
            <a:ext cx="6094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76720" y="266688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90720" y="3048120"/>
            <a:ext cx="3994200" cy="1874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5105520" y="23623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23623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7F4-6EDF-4A6C-91DD-4DF8D7BBD8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922640" cy="4626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to use…(8)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3352680"/>
            <a:ext cx="10666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1676520"/>
            <a:ext cx="3276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 : Use File li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e click source file in file li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286000"/>
            <a:ext cx="4114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2286000"/>
            <a:ext cx="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FF2-92C8-4904-ABFF-16B62A81E2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4923000" cy="4626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to use…(9)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1676520"/>
            <a:ext cx="3429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 selected fi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lay file nam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date stored list inform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us message displa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 changing dat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743200"/>
            <a:ext cx="22860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27432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257800" y="274320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828440" y="2286000"/>
            <a:ext cx="3809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228600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5105520"/>
            <a:ext cx="221004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209320" y="3124080"/>
            <a:ext cx="35053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3124080"/>
            <a:ext cx="0" cy="1981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4DF-DB6D-49D3-93B9-BDDE7695A5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4923000" cy="4626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to use…(10)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1676520"/>
            <a:ext cx="3353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on : save data to mobi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Download butt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us message displa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ess bar displa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657600"/>
            <a:ext cx="3812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105520"/>
            <a:ext cx="1981440" cy="7617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371240" y="2286000"/>
            <a:ext cx="4419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505320" y="3124080"/>
            <a:ext cx="228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2666880"/>
            <a:ext cx="0" cy="2438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228600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990720" y="38098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257640" y="2486160"/>
          <a:ext cx="204840" cy="332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7640" y="2486160"/>
                    <a:ext cx="204840" cy="33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209760" y="2514600"/>
            <a:ext cx="304920" cy="3352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752120" y="2666880"/>
            <a:ext cx="4038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CC8-400B-436C-9BAE-F977F63C49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4923000" cy="4626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to use…(11)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1676520"/>
            <a:ext cx="3429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on : Reload dat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Reload butt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us message displa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Download button to transfer data to mobi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2743200"/>
            <a:ext cx="38124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600200" y="2286000"/>
            <a:ext cx="4114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5105520"/>
            <a:ext cx="205740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3581280"/>
            <a:ext cx="38124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981080" y="2666880"/>
            <a:ext cx="3733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2666880"/>
            <a:ext cx="0" cy="2438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514600" y="3124080"/>
            <a:ext cx="32004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228600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990360" y="29718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124080"/>
            <a:ext cx="0" cy="609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90360" y="3733920"/>
            <a:ext cx="1523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4DD-A81B-4DB4-8201-19F1BD493F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539640" y="1619280"/>
          <a:ext cx="491976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19280"/>
                    <a:ext cx="491976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to use…(12)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1676520"/>
            <a:ext cx="32767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Operation : Save File to P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lick save butt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Input save file nam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Default save file name : smaf_bak.smf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lick save butt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4343400"/>
            <a:ext cx="22096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048120"/>
            <a:ext cx="38124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37720" y="2286000"/>
            <a:ext cx="4953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819160" y="2666880"/>
            <a:ext cx="2971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266688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4343400"/>
            <a:ext cx="6858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571640" y="380988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80988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228600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337-5418-485C-A1BF-EE570C3643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4923000" cy="4626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to use…(13)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5105520"/>
            <a:ext cx="182880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167652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 save fi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us message displa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523520" y="2286000"/>
            <a:ext cx="40388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286000"/>
            <a:ext cx="0" cy="2819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EB62-4E3D-440B-81E2-5F4AD1ECB7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Revision History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14400" y="1828800"/>
          <a:ext cx="7696080" cy="852480"/>
        </p:xfrm>
        <a:graphic>
          <a:graphicData uri="http://schemas.openxmlformats.org/drawingml/2006/table">
            <a:tbl>
              <a:tblPr/>
              <a:tblGrid>
                <a:gridCol w="1371600"/>
                <a:gridCol w="1676520"/>
                <a:gridCol w="4647960"/>
              </a:tblGrid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01.11.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itial Dra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555-B93E-482E-B144-F8B2C14EF9E1}" type="slidenum">
              <a:t>2</a:t>
            </a:fld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539640" y="1619280"/>
          <a:ext cx="491976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19280"/>
                    <a:ext cx="491976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to use…(14)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1676520"/>
            <a:ext cx="33530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Operation : Load Fi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lick Load butt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elect Load Fi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default load file  : smaf_bak.smf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lick Open butt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3352680"/>
            <a:ext cx="38124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762120" y="2286000"/>
            <a:ext cx="5029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2971800"/>
            <a:ext cx="4038480" cy="1905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114440" y="266688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266688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4191120" y="4267080"/>
            <a:ext cx="68580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4495680" y="380988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495320" y="3809880"/>
            <a:ext cx="129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2286000"/>
            <a:ext cx="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4B4F-1B68-449B-862E-5F6EBB6AB3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922640" cy="4626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to use…(15)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1676520"/>
            <a:ext cx="33530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 Load Fi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date Stored List Inform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us message displa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lick Download button to transfer data to mobi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2514600"/>
            <a:ext cx="1828800" cy="327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114440" y="2286000"/>
            <a:ext cx="1676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228600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029200"/>
            <a:ext cx="2209680" cy="8380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133720" y="2666880"/>
            <a:ext cx="3657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2666880"/>
            <a:ext cx="0" cy="2362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657600"/>
            <a:ext cx="38124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676520" y="3124080"/>
            <a:ext cx="4114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3124080"/>
            <a:ext cx="0" cy="83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990360" y="39625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1CD-42A4-4ACC-94CA-0181110446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to use…(16)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38680" y="1676520"/>
            <a:ext cx="33530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on : Play Fi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Play Butt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w Play Box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play file in Play Box as open button cli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Play butt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39640" y="1619280"/>
          <a:ext cx="4934160" cy="46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19280"/>
                    <a:ext cx="493416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609480" y="5181480"/>
            <a:ext cx="45720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37720" y="2286000"/>
            <a:ext cx="4876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2286000"/>
            <a:ext cx="0" cy="2895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3429000"/>
            <a:ext cx="198108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895480" y="2666880"/>
            <a:ext cx="28958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26668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11480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657240" y="3124080"/>
            <a:ext cx="2133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312408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3809880"/>
            <a:ext cx="30492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360" y="3809880"/>
            <a:ext cx="2514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19D8-8B07-4EA5-9B03-8B3592BA03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Additional Comments(1)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load butt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Load data in first time loaded at mobile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Only update stored list area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Click Download button to transfer data to mobile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ave butt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Save everything in stored list area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ad butt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Update stored list area information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Click Download button to transfer data to mobile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D06A-E6E0-4E6F-9524-DD17671AE1EE}" type="slidenum">
              <a:t>23</a:t>
            </a:fld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Additional Comments(2)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op button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imes New Roman"/>
              </a:rPr>
              <a:t>All operation is terminated at any time</a:t>
            </a: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imes New Roman"/>
              </a:rPr>
              <a:t>Disconnect Melody Manager to mobile</a:t>
            </a: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tting butt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imes New Roman"/>
              </a:rPr>
              <a:t>Deactivated button</a:t>
            </a: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imes New Roman"/>
              </a:rPr>
              <a:t>Set to default value </a:t>
            </a: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33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om port1, Baud rate 115000bps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EF2-E292-46A3-8FD4-FDDEEFFDD641}" type="slidenum">
              <a:t>24</a:t>
            </a:fld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Additional Comments(3)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nect butt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imes New Roman"/>
              </a:rPr>
              <a:t>After connection, when the Connect button is pressed</a:t>
            </a: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33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You are showed message box “Do you want to connect?”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33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For new connection, select “YES”.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C117-A1AE-49AD-A7E7-0FEE47A41CD3}" type="slidenum">
              <a:t>25</a:t>
            </a:fld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Error Messages(1)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Times New Roman"/>
              </a:rPr>
              <a:t>Situation 1: “No response”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99cc"/>
                </a:solidFill>
                <a:latin typeface="Times New Roman"/>
              </a:rPr>
              <a:t>Check Cable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66ff33"/>
                </a:solidFill>
                <a:latin typeface="Times New Roman"/>
              </a:rPr>
              <a:t>Plugged state</a:t>
            </a:r>
            <a:endParaRPr b="0" lang="en-US" sz="2000" spc="-1" strike="noStrike">
              <a:solidFill>
                <a:srgbClr val="66ff33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To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To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66ff33"/>
                </a:solidFill>
                <a:latin typeface="Times New Roman"/>
              </a:rPr>
              <a:t>Check cable shorten</a:t>
            </a:r>
            <a:endParaRPr b="0" lang="en-US" sz="2000" spc="-1" strike="noStrike">
              <a:solidFill>
                <a:srgbClr val="66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99cc"/>
                </a:solidFill>
                <a:latin typeface="Times New Roman"/>
              </a:rPr>
              <a:t>Check Mobile  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orrect state :Service Ligh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Battery is separated and combined in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99cc"/>
                </a:solidFill>
                <a:latin typeface="Times New Roman"/>
              </a:rPr>
              <a:t>Check another Program that use COM port (WinTdnm.exe,  etc…)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5D0-3993-458A-A5A6-74E426869AC2}" type="slidenum">
              <a:t>26</a:t>
            </a:fld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Error Messages(2)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Times New Roman"/>
              </a:rPr>
              <a:t>Situation 2 : “Port Initialization Failed.”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99cc"/>
                </a:solidFill>
                <a:latin typeface="Times New Roman"/>
              </a:rPr>
              <a:t>Check another Program that use COM port (WinTdnm.exe,  etc…)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Times New Roman"/>
              </a:rPr>
              <a:t>Situation 3 : “Serial Port Initialization Error!!”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99cc"/>
                </a:solidFill>
                <a:latin typeface="Times New Roman"/>
              </a:rPr>
              <a:t>Cable re-plugged and re-execute Melody Manager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Times New Roman"/>
              </a:rPr>
              <a:t>Situation 4 : “User Data Loading Error!!”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99cc"/>
                </a:solidFill>
                <a:latin typeface="Times New Roman"/>
              </a:rPr>
              <a:t>Check your PC –another program terminated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99cc"/>
                </a:solidFill>
                <a:latin typeface="Times New Roman"/>
              </a:rPr>
              <a:t>Check your system resource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66ff33"/>
                </a:solidFill>
                <a:latin typeface="Times New Roman"/>
              </a:rPr>
              <a:t>CPU – PentiumII 300MHz</a:t>
            </a:r>
            <a:endParaRPr b="0" lang="en-US" sz="2000" spc="-1" strike="noStrike">
              <a:solidFill>
                <a:srgbClr val="66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66ff33"/>
                </a:solidFill>
                <a:latin typeface="Times New Roman"/>
              </a:rPr>
              <a:t>RAM – 64MB</a:t>
            </a:r>
            <a:endParaRPr b="0" lang="en-US" sz="2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233-C777-4CF9-9E4D-BB8AC0B46A2C}" type="slidenum">
              <a:t>27</a:t>
            </a:fld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Error Messages(3)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tuation 5 : “Flash Writing Error!!”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imes New Roman"/>
              </a:rPr>
              <a:t>Check your mobile –Confirm SGH-N611/620/628</a:t>
            </a: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892A-7C70-42E5-8B6C-44A9157426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Contents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bjec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quipments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quipments Sett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w to use…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ditional Commen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rror Messag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56C-9A94-44B7-98A3-79AD02AF8C8E}" type="slidenum">
              <a:t>3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Object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e need to manage melody file in our SAMSUNG mobil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elody fil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imes New Roman"/>
              </a:rPr>
              <a:t>FM melody file</a:t>
            </a: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33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Size : Max 8KByte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imes New Roman"/>
              </a:rPr>
              <a:t>ADPCM melody file</a:t>
            </a: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33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Size : Max 16KByte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5EA3-02F7-4AE1-800D-1361AC8DA475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Equipments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cc"/>
                </a:solidFill>
                <a:latin typeface="Times New Roman"/>
              </a:rPr>
              <a:t>PC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99cc"/>
                </a:solidFill>
                <a:latin typeface="Times New Roman"/>
              </a:rPr>
              <a:t>Recommend system : Pentium II 300,Ram 64M</a:t>
            </a: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cc"/>
                </a:solidFill>
                <a:latin typeface="Times New Roman"/>
              </a:rPr>
              <a:t>Cable(Enable to use Melody Manager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99cc"/>
                </a:solidFill>
                <a:latin typeface="Times New Roman"/>
              </a:rPr>
              <a:t>9 pin  RS232C cable</a:t>
            </a: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99cc"/>
                </a:solidFill>
                <a:latin typeface="Times New Roman"/>
              </a:rPr>
              <a:t>One side is plugged PC and other side is plugged mobile</a:t>
            </a: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cc"/>
                </a:solidFill>
                <a:latin typeface="Times New Roman"/>
              </a:rPr>
              <a:t>O/S : Windows(Win95, Win98, WinMe, Win2000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DCC7-C67A-4EC7-885F-7956EDF91E1A}" type="slidenum">
              <a:t>5</a:t>
            </a:fld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Equipments Setting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72280" y="2714760"/>
            <a:ext cx="1836720" cy="1806480"/>
          </a:xfrm>
          <a:prstGeom prst="rect">
            <a:avLst/>
          </a:prstGeom>
          <a:ln w="0">
            <a:noFill/>
          </a:ln>
        </p:spPr>
      </p:pic>
      <p:pic>
        <p:nvPicPr>
          <p:cNvPr id="57" name="N620_Phone" descr=""/>
          <p:cNvPicPr/>
          <p:nvPr/>
        </p:nvPicPr>
        <p:blipFill>
          <a:blip r:embed="rId2"/>
          <a:stretch/>
        </p:blipFill>
        <p:spPr>
          <a:xfrm>
            <a:off x="1828800" y="2590920"/>
            <a:ext cx="990720" cy="1942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11640" y="1895400"/>
            <a:ext cx="15598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Ligh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4419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472428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4267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2895480"/>
            <a:ext cx="15264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5257800"/>
            <a:ext cx="46483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gged cable then service Light 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7B7D-B33F-48C9-9B30-22DBC1D19F3D}" type="slidenum">
              <a:t>6</a:t>
            </a:fld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to use…(1)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cc"/>
                </a:solidFill>
                <a:latin typeface="Times New Roman"/>
              </a:rPr>
              <a:t>First, set equipmen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99cc"/>
                </a:solidFill>
                <a:latin typeface="Times New Roman"/>
              </a:rPr>
              <a:t>One side of cable is able to use Melody Manager, is plugged serial port of PC and the other side is plugged uart connecter of Mobile</a:t>
            </a: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99cc"/>
                </a:solidFill>
                <a:latin typeface="Times New Roman"/>
              </a:rPr>
              <a:t>Confirm service light on</a:t>
            </a: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CA8-2EB5-4AB6-BC40-93F7140EEE65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to use…(2)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ecute Melody Manager 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imes New Roman"/>
              </a:rPr>
              <a:t>Double Click Melody Manager Icon</a:t>
            </a: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imes New Roman"/>
              </a:rPr>
              <a:t>Refer to Next page screenshot</a:t>
            </a: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C1E-50EF-4D69-B938-5B4D9EBCD3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4923000" cy="4626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to use…(3)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158436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Connect Butt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ated button are  Connect, Exit, Info and Play butt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514600"/>
            <a:ext cx="3812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990720" y="2590920"/>
            <a:ext cx="41148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105520" y="1752120"/>
            <a:ext cx="0" cy="83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175248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593-1FD0-4384-8385-4F50EA97DE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02:32:09Z</dcterms:created>
  <dc:creator>heonyong</dc:creator>
  <dc:description/>
  <dc:language>en-US</dc:language>
  <cp:lastModifiedBy>heonyong</cp:lastModifiedBy>
  <dcterms:modified xsi:type="dcterms:W3CDTF">2001-12-10T08:12:41Z</dcterms:modified>
  <cp:revision>16</cp:revision>
  <dc:subject/>
  <dc:title>SGH-N620 SmafManager User Manual</dc:title>
</cp:coreProperties>
</file>